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871-3FA8-4331-9697-5F61060C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DD7-A760-4E71-B67E-D9D75911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79B-21FC-4BC9-8947-31F6C55B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C91-32B2-4247-8A28-10DEBD82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692-4DD4-4B60-A6BA-55168EB5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35C-82CB-43A1-8BBA-488A845A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661-CB73-43E4-BB5D-ECBD4D27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510-B05E-4C31-8007-376F5CA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4A7-4F64-4D07-9D76-C1D386C1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7A4-5230-4134-9BBC-14017C6E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525-EFEE-4B4D-BCA0-45E4471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E4F-1FBA-44B2-A0AC-F0FA11F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736F-1A92-43C3-8A98-B5D54A9FF28C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bázis kezelé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ccess űrlapok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Űrlap haladó tervezé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gédeszközö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eviteli mező: szövegből,számokból és szimbólumokból álló adatokat jelenít me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elirat: leíró szöveget, pl. címet, képfeliratot, jelenít me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Kép: nem szerkeszthető, módosítható kép beilleszté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Jelölő négyzet: egy „pipa” révén jelzi, hogy egy helyzet igaz vagy hami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vábbi elemek leírása TK 4.1.3.1 fejeze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576360" cy="3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26920" y="4221000"/>
            <a:ext cx="505080" cy="44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26920" y="5229360"/>
            <a:ext cx="439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Űrlap haladó tervezé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vezérlő elemek tulajdonságokkal rendelkeznek, a fő csoportok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dattulajdonságo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lrendezés tulajdonságo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seménytulajdonságo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gyéb tulajdonságo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ezérlő elemek használa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élda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Készítsünk űrlapot mely megkönnyíti a könyvtáros számára a könyvek nyilvántartását, kezelésé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. lépésben hozzuk létre varázsló segítségével egy 1 oszlopos űrlapo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2. lépésben rendezzük át kényelmes formába a vezérlő elemeke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3. kombinált listák készítés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ombinált lista varázsló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976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ombinált lista varázsló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480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ombinált lista varázsló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ombinált lista varázsló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ombinált lista varázsló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9040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ombinált lista varázsló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83236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ncsgomb készíté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48036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Űrlap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legsokoldalúbban használható eszközö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datok bevitelére, módosítására, megtekintésére, nyomtatásár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ehetőség van a Windows-környezetben megszokott eszközök használatár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zínek, betűtípusok, árnyékolások, méretezések változtatásár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ncsgomb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0563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ncsgomb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gyszerű űrlap létrehozása, használat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Készítsünk űrlapot az olvasók tábla számára, megkönnyítve a bevitel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datbázis ablakban válasszuk az „Űrlap” objektum típust, majd válasszuk az „új” gombo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álaszthatunk a tervező nézet, illetve a varázslók közöt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arázslók használa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éhány kérdésre válaszolva eljutunk a kész űrlaphoz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djuk meg, hogy melyik tábla lesz az űrlap alapj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Következő lépésben el kell dönteni, hogy mely mezők szerepeljenek az űrlap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önteni kell az űrlap szerkezetérő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ajd a stílust kell meghatároznun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égül adjuk meg az űrlap címé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Űrlap tervének egyszerű módosít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kész űrlapunkat három nézetben tekinthetjük me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ervező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Űrla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datla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z átalakításhoz válasszuk a tervező nézete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Űrlap tervének egyszerű módosít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99"/>
                </a:solidFill>
                <a:latin typeface="Arial"/>
              </a:rPr>
              <a:t>Az űrlap több szakaszból ál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99"/>
                </a:solidFill>
                <a:latin typeface="Arial"/>
              </a:rPr>
              <a:t>Űrlapfej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99"/>
                </a:solidFill>
                <a:latin typeface="Arial"/>
              </a:rPr>
              <a:t>Az adatok megjelenítésekor a fejléc csak egyszer, az ablak tetején jelenik meg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99"/>
                </a:solidFill>
                <a:latin typeface="Arial"/>
              </a:rPr>
              <a:t>Törz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99"/>
                </a:solidFill>
                <a:latin typeface="Arial"/>
              </a:rPr>
              <a:t>Ez tartalmazza a tábla mezőit, a törzs annyiszor ismétlődik meg ahány rekord van a táblába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99"/>
                </a:solidFill>
                <a:latin typeface="Arial"/>
              </a:rPr>
              <a:t>Űrlaplábléc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99"/>
                </a:solidFill>
                <a:latin typeface="Arial"/>
              </a:rPr>
              <a:t>Az ablak alján, egyszer tekinthető meg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99"/>
                </a:solidFill>
                <a:latin typeface="Arial"/>
              </a:rPr>
              <a:t>Oldalfejléc, oldallábléc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99"/>
                </a:solidFill>
                <a:latin typeface="Arial"/>
              </a:rPr>
              <a:t>Csak nyomtatáskor jelenek meg (pl. oldalszámozás)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820728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Űrlap tervének egyszerű módosít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zek a szakaszok tartalmazzák az űrlapok lelkét, a vezérlőelemeke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zgassuk, méretezzük át nekünk tetszőnek,hogy kényelmesen használhassuk adatbevitelr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Űrlap haladó tervezé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99"/>
                </a:solidFill>
                <a:latin typeface="Arial"/>
              </a:rPr>
              <a:t>Segédeszközö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99"/>
                </a:solidFill>
                <a:latin typeface="Arial"/>
              </a:rPr>
              <a:t>Objektumkijelölő ikon: kijelöléshez, áthelyezéshez, méretezéshez és szerkesztéshez használju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99"/>
                </a:solidFill>
                <a:latin typeface="Arial"/>
              </a:rPr>
              <a:t>Vezérlőelem varázsló ikon: bekapcsolhatjuk vele a varázslót, mely után, ha olyan vezérlőre kattintunk, melyhez van varázsló akkor azt elinditja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484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08:15:41Z</dcterms:created>
  <dc:creator>Nagymáté Péter</dc:creator>
  <dc:description/>
  <dc:language>en-US</dc:language>
  <cp:lastModifiedBy>Nagymáté Péter</cp:lastModifiedBy>
  <dcterms:modified xsi:type="dcterms:W3CDTF">2004-01-20T12:00:39Z</dcterms:modified>
  <cp:revision>5</cp:revision>
  <dc:subject/>
  <dc:title>Adatbázis kezelés</dc:title>
</cp:coreProperties>
</file>